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ct" ContentType="image/x-pict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9.pct" ContentType="image/x-pict"/>
  <Override PartName="/ppt/media/image16.png" ContentType="image/png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4DB4-57CB-4607-9596-ED1768622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D249-E28E-40F8-BA4D-6DE4413CB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B62-2571-4720-9883-01D47816D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0CA8-E3DF-4687-ABDA-E8D831B2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9AC6-0F85-4D05-A657-14DCB2900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D3CC-F402-4522-8C8D-5EA55E5EA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5877-3056-45DE-894C-AAD4715C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53F2-C89F-4B70-AF49-EBB7A4E21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EA4E-86E3-4577-BF45-E4612CE8B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6DCF-60F6-4041-9C36-6DF1132B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CDCD-89C1-4D94-9831-6DAF3D529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52A-FE4F-41DC-AAC3-2D27985A3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40DA-3C75-47B9-A261-B2AC6700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1271-727B-4C01-BFEB-77EA31E61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C119-1A33-4DDF-B53B-1218A7E3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F8D2-0F6F-4A3F-8176-B5AC156F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F85B-DECF-457A-8396-3E7D135F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DBC9-26D0-4C04-898E-8ED3EBCC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6FF-CD3A-44EC-839A-F8E65B35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B6C9-4A23-4CEF-9326-D8702CED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6B1-4EC7-453B-88DC-34A99AB1C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3C00-CC22-405E-845B-9F0B726D4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E0E3-AE01-4468-BF1F-251DBCA7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590B-666C-4FB9-AF0D-AEFAF3A8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473B-F6D9-4A8B-8F50-CFBAF9453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38E-9BDC-42CA-8AC8-CF4F68A3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27C-9254-4359-9E30-9D0ACEEE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CD33-64FA-4EA0-B4B8-81E26B7E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2D5C-E887-44F8-9DB9-896648B4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4759-FF38-4DE0-A862-E57B2D12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D07E-6B2A-4604-A070-4BD352D2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82FB-ED8A-4572-8C98-B5C930F2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4555-148E-4077-B995-36C3417C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D849-0879-426E-994C-3BF3422B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EF2C-FA41-4448-AC4D-929C2B41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5CA-6AEC-44EA-A239-09CDD1E0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1E2-474F-49E7-800A-4589A658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D51E-BA3B-4259-8759-390B602E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D8A4-CC35-4F41-A261-D766F129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BF8C-DD48-42A3-9250-034282C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8A3E-24A1-48ED-878E-7095070B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CD6A-5750-4AA5-A045-3B6C3ABD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F5C-BF55-4562-B891-2F7EC9F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32F-E8C0-4017-9F7B-63B5E50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C440-5FC7-477A-A62E-C94EB824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FF2-3331-459B-87B2-8E8C1D0E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C21-030E-4143-8578-43C1CA07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4B5-A58F-4137-9725-9AA04804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BF8F-4696-4EF7-98D4-7A1EAD9E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526C-DB58-4A4C-8F13-B5D85C728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A85-3CE3-47CD-B2AD-D9A21539D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FB4-00C4-4107-BEC7-6558C81301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91160" cy="838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mergency Market Mapping &amp; Analysi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uided Study and Pratice of the Toolk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30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hington D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ay 1: EMMA’S RATIONALE, PURPOSE &amp;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EMMA 1"/>
          <p:cNvPicPr/>
          <p:nvPr/>
        </p:nvPicPr>
        <p:blipFill>
          <a:blip r:embed="rId1"/>
          <a:stretch/>
        </p:blipFill>
        <p:spPr>
          <a:xfrm>
            <a:off x="380880" y="2819520"/>
            <a:ext cx="2438640" cy="2266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India1"/>
          <p:cNvPicPr/>
          <p:nvPr/>
        </p:nvPicPr>
        <p:blipFill>
          <a:blip r:embed="rId2"/>
          <a:stretch/>
        </p:blipFill>
        <p:spPr>
          <a:xfrm>
            <a:off x="6019920" y="3581280"/>
            <a:ext cx="259056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1B0-28F3-442B-B2DF-4FA7898F45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pping the taxi vehicle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r groups represent “TaxiHelp”, an aid NGO that supports lives and livelihoods of the urban poor by supporting local public taxi servic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raw a map of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axi vehic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system of all the market actors that enable the vehicle  to be operated effectively, providing support for the urban poor user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all the actors in that system, and any links between th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nk about the supply chain, the infrastructure, and the rules, institutions etc that affect the marke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‘right answer’; just start and make a basic ma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any appropriate assump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bush-taxi"/>
          <p:cNvPicPr/>
          <p:nvPr/>
        </p:nvPicPr>
        <p:blipFill>
          <a:blip r:embed="rId1"/>
          <a:stretch/>
        </p:blipFill>
        <p:spPr>
          <a:xfrm>
            <a:off x="7242120" y="4800600"/>
            <a:ext cx="190188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2E60-B976-42F4-9C44-030676299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179280" y="503280"/>
            <a:ext cx="2654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Environment: Institutions, Rule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rms &amp;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179280" y="4724280"/>
            <a:ext cx="1584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y Infrastructur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amp;  Market Support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0" y="4437000"/>
            <a:ext cx="8896320" cy="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179280" y="2117880"/>
            <a:ext cx="8931240" cy="303120"/>
            <a:chOff x="179280" y="2117880"/>
            <a:chExt cx="8931240" cy="303120"/>
          </a:xfrm>
        </p:grpSpPr>
        <p:sp>
          <p:nvSpPr>
            <p:cNvPr id="140" name="Line 6"/>
            <p:cNvSpPr/>
            <p:nvPr/>
          </p:nvSpPr>
          <p:spPr>
            <a:xfrm>
              <a:off x="179280" y="2276640"/>
              <a:ext cx="89312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44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4"/>
            <p:cNvSpPr/>
            <p:nvPr/>
          </p:nvSpPr>
          <p:spPr>
            <a:xfrm>
              <a:off x="180036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318780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4"/>
            <p:cNvSpPr/>
            <p:nvPr/>
          </p:nvSpPr>
          <p:spPr>
            <a:xfrm>
              <a:off x="457668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"/>
            <p:cNvSpPr/>
            <p:nvPr/>
          </p:nvSpPr>
          <p:spPr>
            <a:xfrm>
              <a:off x="5965920" y="2119320"/>
              <a:ext cx="49356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"/>
            <p:cNvSpPr/>
            <p:nvPr/>
          </p:nvSpPr>
          <p:spPr>
            <a:xfrm>
              <a:off x="735480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8"/>
          <p:cNvSpPr/>
          <p:nvPr/>
        </p:nvSpPr>
        <p:spPr>
          <a:xfrm>
            <a:off x="179280" y="2468520"/>
            <a:ext cx="25178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Chain: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rket Actors &amp; Their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5076720" y="3213000"/>
            <a:ext cx="863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627280" y="34290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Leasing 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611280" y="3213000"/>
            <a:ext cx="129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7164360" y="27576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7164360" y="3549600"/>
            <a:ext cx="1152720" cy="520200"/>
          </a:xfrm>
          <a:prstGeom prst="rect">
            <a:avLst/>
          </a:prstGeom>
          <a:solidFill>
            <a:srgbClr val="b9b9e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rban Poo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18"/>
          <p:cNvCxnSpPr>
            <a:stCxn id="153" idx="3"/>
            <a:endCxn id="147" idx="2"/>
          </p:cNvCxnSpPr>
          <p:nvPr/>
        </p:nvCxnSpPr>
        <p:spPr>
          <a:xfrm flipH="1" flipV="1">
            <a:off x="5508720" y="3739320"/>
            <a:ext cx="122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4" name="AutoShape 19"/>
          <p:cNvCxnSpPr>
            <a:stCxn id="155" idx="3"/>
            <a:endCxn id="147" idx="2"/>
          </p:cNvCxnSpPr>
          <p:nvPr/>
        </p:nvCxnSpPr>
        <p:spPr>
          <a:xfrm flipH="1" flipV="1">
            <a:off x="5508360" y="3739680"/>
            <a:ext cx="435600" cy="17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6" name="AutoShape 20"/>
          <p:cNvCxnSpPr>
            <a:stCxn id="157" idx="3"/>
            <a:endCxn id="147" idx="2"/>
          </p:cNvCxnSpPr>
          <p:nvPr/>
        </p:nvCxnSpPr>
        <p:spPr>
          <a:xfrm flipV="1">
            <a:off x="5087520" y="3739320"/>
            <a:ext cx="4215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58" name="AutoShape 21"/>
          <p:cNvCxnSpPr>
            <a:stCxn id="159" idx="3"/>
            <a:endCxn id="148" idx="2"/>
          </p:cNvCxnSpPr>
          <p:nvPr/>
        </p:nvCxnSpPr>
        <p:spPr>
          <a:xfrm flipV="1">
            <a:off x="3084120" y="3955320"/>
            <a:ext cx="1198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0" name="AutoShape 22"/>
          <p:cNvCxnSpPr>
            <a:stCxn id="161" idx="3"/>
            <a:endCxn id="148" idx="2"/>
          </p:cNvCxnSpPr>
          <p:nvPr/>
        </p:nvCxnSpPr>
        <p:spPr>
          <a:xfrm flipV="1">
            <a:off x="1978200" y="3955680"/>
            <a:ext cx="1226160" cy="14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2" name="AutoShape 23"/>
          <p:cNvCxnSpPr>
            <a:stCxn id="161" idx="3"/>
            <a:endCxn id="149" idx="2"/>
          </p:cNvCxnSpPr>
          <p:nvPr/>
        </p:nvCxnSpPr>
        <p:spPr>
          <a:xfrm flipH="1" flipV="1">
            <a:off x="1260000" y="3739680"/>
            <a:ext cx="71856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3" name="AutoShape 24"/>
          <p:cNvCxnSpPr>
            <a:stCxn id="149" idx="3"/>
            <a:endCxn id="148" idx="1"/>
          </p:cNvCxnSpPr>
          <p:nvPr/>
        </p:nvCxnSpPr>
        <p:spPr>
          <a:xfrm>
            <a:off x="1908000" y="3476520"/>
            <a:ext cx="720000" cy="21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AutoShape 25"/>
          <p:cNvCxnSpPr>
            <a:stCxn id="147" idx="3"/>
            <a:endCxn id="151" idx="1"/>
          </p:cNvCxnSpPr>
          <p:nvPr/>
        </p:nvCxnSpPr>
        <p:spPr>
          <a:xfrm>
            <a:off x="5940360" y="3476160"/>
            <a:ext cx="1224720" cy="335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5" name="AutoShape 26"/>
          <p:cNvCxnSpPr>
            <a:stCxn id="147" idx="3"/>
            <a:endCxn id="150" idx="1"/>
          </p:cNvCxnSpPr>
          <p:nvPr/>
        </p:nvCxnSpPr>
        <p:spPr>
          <a:xfrm flipV="1">
            <a:off x="5940360" y="3020400"/>
            <a:ext cx="1224720" cy="4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6" name="AutoShape 27"/>
          <p:cNvCxnSpPr>
            <a:stCxn id="167" idx="3"/>
            <a:endCxn id="151" idx="2"/>
          </p:cNvCxnSpPr>
          <p:nvPr/>
        </p:nvCxnSpPr>
        <p:spPr>
          <a:xfrm flipH="1" flipV="1">
            <a:off x="7740000" y="4073040"/>
            <a:ext cx="570600" cy="12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8" name="AutoShape 28"/>
          <p:cNvCxnSpPr>
            <a:stCxn id="159" idx="3"/>
            <a:endCxn id="147" idx="2"/>
          </p:cNvCxnSpPr>
          <p:nvPr/>
        </p:nvCxnSpPr>
        <p:spPr>
          <a:xfrm flipV="1">
            <a:off x="3084480" y="3739320"/>
            <a:ext cx="242496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169" name="AutoShape 29"/>
          <p:cNvCxnSpPr>
            <a:stCxn id="148" idx="3"/>
            <a:endCxn id="147" idx="1"/>
          </p:cNvCxnSpPr>
          <p:nvPr/>
        </p:nvCxnSpPr>
        <p:spPr>
          <a:xfrm flipV="1">
            <a:off x="3780000" y="3476160"/>
            <a:ext cx="1297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AutoShape 30"/>
          <p:cNvSpPr/>
          <p:nvPr/>
        </p:nvSpPr>
        <p:spPr>
          <a:xfrm>
            <a:off x="1547640" y="537768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1"/>
          <p:cNvSpPr/>
          <p:nvPr/>
        </p:nvSpPr>
        <p:spPr>
          <a:xfrm>
            <a:off x="2627280" y="4673160"/>
            <a:ext cx="914400" cy="76932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uranc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2"/>
          <p:cNvSpPr/>
          <p:nvPr/>
        </p:nvSpPr>
        <p:spPr>
          <a:xfrm>
            <a:off x="4594320" y="4872600"/>
            <a:ext cx="98568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age Mecha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3"/>
          <p:cNvSpPr/>
          <p:nvPr/>
        </p:nvSpPr>
        <p:spPr>
          <a:xfrm>
            <a:off x="5513400" y="54489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4"/>
          <p:cNvSpPr/>
          <p:nvPr/>
        </p:nvSpPr>
        <p:spPr>
          <a:xfrm>
            <a:off x="7451640" y="52455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h A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6305400" y="480132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 &amp; Brid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6"/>
          <p:cNvSpPr/>
          <p:nvPr/>
        </p:nvSpPr>
        <p:spPr>
          <a:xfrm>
            <a:off x="3975120" y="91728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Licens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7"/>
          <p:cNvSpPr/>
          <p:nvPr/>
        </p:nvSpPr>
        <p:spPr>
          <a:xfrm>
            <a:off x="1763640" y="1035000"/>
            <a:ext cx="105732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8"/>
          <p:cNvSpPr/>
          <p:nvPr/>
        </p:nvSpPr>
        <p:spPr>
          <a:xfrm>
            <a:off x="2965320" y="1432080"/>
            <a:ext cx="86544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sing 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9"/>
          <p:cNvSpPr/>
          <p:nvPr/>
        </p:nvSpPr>
        <p:spPr>
          <a:xfrm>
            <a:off x="5854680" y="917280"/>
            <a:ext cx="79236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ffic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s. &amp;  Po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6791400" y="131400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ny Expense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1"/>
          <p:cNvSpPr/>
          <p:nvPr/>
        </p:nvSpPr>
        <p:spPr>
          <a:xfrm>
            <a:off x="900000" y="1432080"/>
            <a:ext cx="71928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2"/>
          <p:cNvSpPr/>
          <p:nvPr/>
        </p:nvSpPr>
        <p:spPr>
          <a:xfrm>
            <a:off x="7812000" y="91728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Transport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3"/>
          <p:cNvSpPr/>
          <p:nvPr/>
        </p:nvSpPr>
        <p:spPr>
          <a:xfrm>
            <a:off x="4915080" y="131400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Drivers’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508120" y="6862680"/>
          <a:ext cx="5241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6862680"/>
                    <a:ext cx="52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5"/>
          <p:cNvSpPr/>
          <p:nvPr/>
        </p:nvSpPr>
        <p:spPr>
          <a:xfrm>
            <a:off x="284328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-system for Taxi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6"/>
          <p:cNvSpPr/>
          <p:nvPr/>
        </p:nvSpPr>
        <p:spPr>
          <a:xfrm>
            <a:off x="3514680" y="5377680"/>
            <a:ext cx="98604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iv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47"/>
          <p:cNvCxnSpPr>
            <a:stCxn id="181" idx="3"/>
            <a:endCxn id="147" idx="2"/>
          </p:cNvCxnSpPr>
          <p:nvPr/>
        </p:nvCxnSpPr>
        <p:spPr>
          <a:xfrm flipV="1">
            <a:off x="4008240" y="3739680"/>
            <a:ext cx="150084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sp>
        <p:nvSpPr>
          <p:cNvPr id="183" name="Text Box 48"/>
          <p:cNvSpPr/>
          <p:nvPr/>
        </p:nvSpPr>
        <p:spPr>
          <a:xfrm>
            <a:off x="3924360" y="2637000"/>
            <a:ext cx="647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AutoShape 49"/>
          <p:cNvCxnSpPr>
            <a:stCxn id="148" idx="0"/>
            <a:endCxn id="183" idx="1"/>
          </p:cNvCxnSpPr>
          <p:nvPr/>
        </p:nvCxnSpPr>
        <p:spPr>
          <a:xfrm flipV="1">
            <a:off x="3203640" y="2900160"/>
            <a:ext cx="72144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AutoShape 50"/>
          <p:cNvCxnSpPr>
            <a:stCxn id="183" idx="3"/>
            <a:endCxn id="147" idx="1"/>
          </p:cNvCxnSpPr>
          <p:nvPr/>
        </p:nvCxnSpPr>
        <p:spPr>
          <a:xfrm>
            <a:off x="4572000" y="2900520"/>
            <a:ext cx="5054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AutoShape 51"/>
          <p:cNvCxnSpPr>
            <a:stCxn id="149" idx="3"/>
            <a:endCxn id="183" idx="1"/>
          </p:cNvCxnSpPr>
          <p:nvPr/>
        </p:nvCxnSpPr>
        <p:spPr>
          <a:xfrm flipV="1">
            <a:off x="1907640" y="2900520"/>
            <a:ext cx="2017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1D18-D24D-40CA-BE06-BF8BF81152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79280" y="503280"/>
            <a:ext cx="26542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Environment: Institutions, Rules,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Norms &amp; 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79280" y="4724280"/>
            <a:ext cx="15843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Key Infrastructure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amp;  Market Support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0" y="4437000"/>
            <a:ext cx="8896320" cy="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179280" y="2117880"/>
            <a:ext cx="8931240" cy="303120"/>
            <a:chOff x="179280" y="2117880"/>
            <a:chExt cx="8931240" cy="303120"/>
          </a:xfrm>
        </p:grpSpPr>
        <p:sp>
          <p:nvSpPr>
            <p:cNvPr id="193" name="Line 6"/>
            <p:cNvSpPr/>
            <p:nvPr/>
          </p:nvSpPr>
          <p:spPr>
            <a:xfrm>
              <a:off x="179280" y="2276640"/>
              <a:ext cx="893124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44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4"/>
            <p:cNvSpPr/>
            <p:nvPr/>
          </p:nvSpPr>
          <p:spPr>
            <a:xfrm>
              <a:off x="180036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4"/>
            <p:cNvSpPr/>
            <p:nvPr/>
          </p:nvSpPr>
          <p:spPr>
            <a:xfrm>
              <a:off x="3187800" y="2117880"/>
              <a:ext cx="493560" cy="30132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4"/>
            <p:cNvSpPr/>
            <p:nvPr/>
          </p:nvSpPr>
          <p:spPr>
            <a:xfrm>
              <a:off x="457668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5965920" y="2119320"/>
              <a:ext cx="49356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4"/>
            <p:cNvSpPr/>
            <p:nvPr/>
          </p:nvSpPr>
          <p:spPr>
            <a:xfrm>
              <a:off x="7354800" y="2119320"/>
              <a:ext cx="493920" cy="301680"/>
            </a:xfrm>
            <a:prstGeom prst="downArrow">
              <a:avLst>
                <a:gd name="adj1" fmla="val 47907"/>
                <a:gd name="adj2" fmla="val 57894"/>
              </a:avLst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3600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8"/>
          <p:cNvSpPr/>
          <p:nvPr/>
        </p:nvSpPr>
        <p:spPr>
          <a:xfrm>
            <a:off x="179280" y="2468520"/>
            <a:ext cx="251784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36000" bIns="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he Market Chain: </a:t>
            </a:r>
            <a:br>
              <a:rPr sz="1200"/>
            </a:b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rket Actors &amp; Their Lin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5076720" y="3213000"/>
            <a:ext cx="863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2627280" y="34290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Leasing 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611280" y="3213000"/>
            <a:ext cx="1296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hicle Impo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6"/>
          <p:cNvSpPr/>
          <p:nvPr/>
        </p:nvSpPr>
        <p:spPr>
          <a:xfrm>
            <a:off x="7164360" y="2757600"/>
            <a:ext cx="1152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7164360" y="3549600"/>
            <a:ext cx="1152720" cy="520200"/>
          </a:xfrm>
          <a:prstGeom prst="rect">
            <a:avLst/>
          </a:prstGeom>
          <a:solidFill>
            <a:srgbClr val="b9b9e7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rban Poo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18"/>
          <p:cNvCxnSpPr>
            <a:stCxn id="206" idx="3"/>
            <a:endCxn id="200" idx="2"/>
          </p:cNvCxnSpPr>
          <p:nvPr/>
        </p:nvCxnSpPr>
        <p:spPr>
          <a:xfrm flipH="1" flipV="1">
            <a:off x="5508720" y="3739320"/>
            <a:ext cx="12272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07" name="AutoShape 19"/>
          <p:cNvCxnSpPr>
            <a:stCxn id="208" idx="3"/>
            <a:endCxn id="200" idx="2"/>
          </p:cNvCxnSpPr>
          <p:nvPr/>
        </p:nvCxnSpPr>
        <p:spPr>
          <a:xfrm flipH="1" flipV="1">
            <a:off x="5508360" y="3739680"/>
            <a:ext cx="435600" cy="170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09" name="AutoShape 20"/>
          <p:cNvCxnSpPr>
            <a:stCxn id="210" idx="3"/>
            <a:endCxn id="200" idx="2"/>
          </p:cNvCxnSpPr>
          <p:nvPr/>
        </p:nvCxnSpPr>
        <p:spPr>
          <a:xfrm flipV="1">
            <a:off x="5087520" y="3739320"/>
            <a:ext cx="421560" cy="11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1" name="AutoShape 21"/>
          <p:cNvCxnSpPr>
            <a:stCxn id="212" idx="3"/>
            <a:endCxn id="201" idx="2"/>
          </p:cNvCxnSpPr>
          <p:nvPr/>
        </p:nvCxnSpPr>
        <p:spPr>
          <a:xfrm flipV="1">
            <a:off x="3084120" y="3955320"/>
            <a:ext cx="11988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3" name="AutoShape 22"/>
          <p:cNvCxnSpPr>
            <a:stCxn id="214" idx="3"/>
            <a:endCxn id="201" idx="2"/>
          </p:cNvCxnSpPr>
          <p:nvPr/>
        </p:nvCxnSpPr>
        <p:spPr>
          <a:xfrm flipV="1">
            <a:off x="1978200" y="3955680"/>
            <a:ext cx="1226160" cy="141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5" name="AutoShape 23"/>
          <p:cNvCxnSpPr>
            <a:stCxn id="214" idx="3"/>
            <a:endCxn id="202" idx="2"/>
          </p:cNvCxnSpPr>
          <p:nvPr/>
        </p:nvCxnSpPr>
        <p:spPr>
          <a:xfrm flipH="1" flipV="1">
            <a:off x="1260000" y="3739680"/>
            <a:ext cx="71856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16" name="AutoShape 24"/>
          <p:cNvCxnSpPr>
            <a:stCxn id="202" idx="3"/>
            <a:endCxn id="201" idx="1"/>
          </p:cNvCxnSpPr>
          <p:nvPr/>
        </p:nvCxnSpPr>
        <p:spPr>
          <a:xfrm>
            <a:off x="1908000" y="3476520"/>
            <a:ext cx="720000" cy="21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7" name="AutoShape 25"/>
          <p:cNvCxnSpPr>
            <a:stCxn id="200" idx="3"/>
            <a:endCxn id="204" idx="1"/>
          </p:cNvCxnSpPr>
          <p:nvPr/>
        </p:nvCxnSpPr>
        <p:spPr>
          <a:xfrm>
            <a:off x="5940360" y="3476160"/>
            <a:ext cx="1224720" cy="335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8" name="AutoShape 26"/>
          <p:cNvCxnSpPr>
            <a:stCxn id="200" idx="3"/>
            <a:endCxn id="203" idx="1"/>
          </p:cNvCxnSpPr>
          <p:nvPr/>
        </p:nvCxnSpPr>
        <p:spPr>
          <a:xfrm flipV="1">
            <a:off x="5940360" y="3020400"/>
            <a:ext cx="1224720" cy="456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19" name="AutoShape 27"/>
          <p:cNvCxnSpPr>
            <a:stCxn id="220" idx="3"/>
            <a:endCxn id="204" idx="2"/>
          </p:cNvCxnSpPr>
          <p:nvPr/>
        </p:nvCxnSpPr>
        <p:spPr>
          <a:xfrm flipH="1" flipV="1">
            <a:off x="7740000" y="4073040"/>
            <a:ext cx="570600" cy="125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21" name="AutoShape 28"/>
          <p:cNvCxnSpPr>
            <a:stCxn id="212" idx="3"/>
            <a:endCxn id="200" idx="2"/>
          </p:cNvCxnSpPr>
          <p:nvPr/>
        </p:nvCxnSpPr>
        <p:spPr>
          <a:xfrm flipV="1">
            <a:off x="3084480" y="3739320"/>
            <a:ext cx="242496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cxnSp>
        <p:nvCxnSpPr>
          <p:cNvPr id="222" name="AutoShape 29"/>
          <p:cNvCxnSpPr>
            <a:stCxn id="201" idx="3"/>
            <a:endCxn id="200" idx="1"/>
          </p:cNvCxnSpPr>
          <p:nvPr/>
        </p:nvCxnSpPr>
        <p:spPr>
          <a:xfrm flipV="1">
            <a:off x="3780000" y="3476160"/>
            <a:ext cx="1297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AutoShape 30"/>
          <p:cNvSpPr/>
          <p:nvPr/>
        </p:nvSpPr>
        <p:spPr>
          <a:xfrm>
            <a:off x="1547640" y="537768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1"/>
          <p:cNvSpPr/>
          <p:nvPr/>
        </p:nvSpPr>
        <p:spPr>
          <a:xfrm>
            <a:off x="2627280" y="4673160"/>
            <a:ext cx="914400" cy="76932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urance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2"/>
          <p:cNvSpPr/>
          <p:nvPr/>
        </p:nvSpPr>
        <p:spPr>
          <a:xfrm>
            <a:off x="4594320" y="4872600"/>
            <a:ext cx="98568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arage Mechan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3"/>
          <p:cNvSpPr/>
          <p:nvPr/>
        </p:nvSpPr>
        <p:spPr>
          <a:xfrm>
            <a:off x="5513400" y="54489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lling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4"/>
          <p:cNvSpPr/>
          <p:nvPr/>
        </p:nvSpPr>
        <p:spPr>
          <a:xfrm>
            <a:off x="7451640" y="524556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h AT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5"/>
          <p:cNvSpPr/>
          <p:nvPr/>
        </p:nvSpPr>
        <p:spPr>
          <a:xfrm>
            <a:off x="6305400" y="4801320"/>
            <a:ext cx="85896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ads &amp; Brid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6"/>
          <p:cNvSpPr/>
          <p:nvPr/>
        </p:nvSpPr>
        <p:spPr>
          <a:xfrm>
            <a:off x="3975120" y="91728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Licens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7"/>
          <p:cNvSpPr/>
          <p:nvPr/>
        </p:nvSpPr>
        <p:spPr>
          <a:xfrm>
            <a:off x="1763640" y="1035000"/>
            <a:ext cx="105732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ancial Reg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8"/>
          <p:cNvSpPr/>
          <p:nvPr/>
        </p:nvSpPr>
        <p:spPr>
          <a:xfrm>
            <a:off x="2965320" y="1432080"/>
            <a:ext cx="86544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asing L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9"/>
          <p:cNvSpPr/>
          <p:nvPr/>
        </p:nvSpPr>
        <p:spPr>
          <a:xfrm>
            <a:off x="5854680" y="917280"/>
            <a:ext cx="79236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ffic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gs. &amp;  Poli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0"/>
          <p:cNvSpPr/>
          <p:nvPr/>
        </p:nvSpPr>
        <p:spPr>
          <a:xfrm>
            <a:off x="6791400" y="131400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ny Expenses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1"/>
          <p:cNvSpPr/>
          <p:nvPr/>
        </p:nvSpPr>
        <p:spPr>
          <a:xfrm>
            <a:off x="900000" y="1432080"/>
            <a:ext cx="719280" cy="472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ort Tari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7812000" y="917280"/>
            <a:ext cx="87480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 Transport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3"/>
          <p:cNvSpPr/>
          <p:nvPr/>
        </p:nvSpPr>
        <p:spPr>
          <a:xfrm>
            <a:off x="4915080" y="1314000"/>
            <a:ext cx="795240" cy="708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Drivers’ Un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08120" y="6862680"/>
          <a:ext cx="5241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8120" y="6862680"/>
                    <a:ext cx="5241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45"/>
          <p:cNvSpPr/>
          <p:nvPr/>
        </p:nvSpPr>
        <p:spPr>
          <a:xfrm>
            <a:off x="2843280" y="260280"/>
            <a:ext cx="41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-system for Taxi Veh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6"/>
          <p:cNvSpPr/>
          <p:nvPr/>
        </p:nvSpPr>
        <p:spPr>
          <a:xfrm>
            <a:off x="3514680" y="5377680"/>
            <a:ext cx="986040" cy="513000"/>
          </a:xfrm>
          <a:prstGeom prst="octagon">
            <a:avLst>
              <a:gd name="adj" fmla="val 1688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iv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AutoShape 47"/>
          <p:cNvCxnSpPr>
            <a:stCxn id="234" idx="3"/>
            <a:endCxn id="200" idx="2"/>
          </p:cNvCxnSpPr>
          <p:nvPr/>
        </p:nvCxnSpPr>
        <p:spPr>
          <a:xfrm flipV="1">
            <a:off x="4008240" y="3739680"/>
            <a:ext cx="1500840" cy="163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oval" w="lg"/>
          </a:ln>
        </p:spPr>
      </p:cxnSp>
      <p:sp>
        <p:nvSpPr>
          <p:cNvPr id="236" name="Text Box 48"/>
          <p:cNvSpPr/>
          <p:nvPr/>
        </p:nvSpPr>
        <p:spPr>
          <a:xfrm>
            <a:off x="3924360" y="2637000"/>
            <a:ext cx="647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xi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AutoShape 49"/>
          <p:cNvCxnSpPr>
            <a:stCxn id="201" idx="0"/>
            <a:endCxn id="236" idx="1"/>
          </p:cNvCxnSpPr>
          <p:nvPr/>
        </p:nvCxnSpPr>
        <p:spPr>
          <a:xfrm flipV="1">
            <a:off x="3203640" y="2900160"/>
            <a:ext cx="72144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AutoShape 50"/>
          <p:cNvCxnSpPr>
            <a:stCxn id="236" idx="3"/>
            <a:endCxn id="200" idx="1"/>
          </p:cNvCxnSpPr>
          <p:nvPr/>
        </p:nvCxnSpPr>
        <p:spPr>
          <a:xfrm>
            <a:off x="4572000" y="2900520"/>
            <a:ext cx="505440" cy="5763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51"/>
          <p:cNvCxnSpPr>
            <a:stCxn id="202" idx="3"/>
            <a:endCxn id="236" idx="1"/>
          </p:cNvCxnSpPr>
          <p:nvPr/>
        </p:nvCxnSpPr>
        <p:spPr>
          <a:xfrm flipV="1">
            <a:off x="1907640" y="2900520"/>
            <a:ext cx="2017080" cy="57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Line 52"/>
          <p:cNvSpPr/>
          <p:nvPr/>
        </p:nvSpPr>
        <p:spPr>
          <a:xfrm flipH="1" flipV="1">
            <a:off x="2133720" y="4800240"/>
            <a:ext cx="342720" cy="34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3"/>
          <p:cNvSpPr/>
          <p:nvPr/>
        </p:nvSpPr>
        <p:spPr>
          <a:xfrm flipV="1">
            <a:off x="1523880" y="4495320"/>
            <a:ext cx="228600" cy="2286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4"/>
          <p:cNvSpPr/>
          <p:nvPr/>
        </p:nvSpPr>
        <p:spPr>
          <a:xfrm flipH="1" flipV="1">
            <a:off x="3809520" y="4191120"/>
            <a:ext cx="343080" cy="34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5"/>
          <p:cNvSpPr/>
          <p:nvPr/>
        </p:nvSpPr>
        <p:spPr>
          <a:xfrm flipV="1">
            <a:off x="3886200" y="419112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6"/>
          <p:cNvSpPr/>
          <p:nvPr/>
        </p:nvSpPr>
        <p:spPr>
          <a:xfrm flipH="1" flipV="1">
            <a:off x="2971800" y="4343040"/>
            <a:ext cx="380880" cy="3049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7"/>
          <p:cNvSpPr/>
          <p:nvPr/>
        </p:nvSpPr>
        <p:spPr>
          <a:xfrm flipH="1" flipV="1">
            <a:off x="6400440" y="3048120"/>
            <a:ext cx="343080" cy="34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8"/>
          <p:cNvSpPr/>
          <p:nvPr/>
        </p:nvSpPr>
        <p:spPr>
          <a:xfrm flipV="1">
            <a:off x="6248520" y="3429000"/>
            <a:ext cx="228600" cy="38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9"/>
          <p:cNvSpPr/>
          <p:nvPr/>
        </p:nvSpPr>
        <p:spPr>
          <a:xfrm flipH="1" flipV="1">
            <a:off x="6248520" y="3428640"/>
            <a:ext cx="342720" cy="34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0"/>
          <p:cNvSpPr/>
          <p:nvPr/>
        </p:nvSpPr>
        <p:spPr>
          <a:xfrm flipV="1">
            <a:off x="6172200" y="4191120"/>
            <a:ext cx="22860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1"/>
          <p:cNvSpPr/>
          <p:nvPr/>
        </p:nvSpPr>
        <p:spPr>
          <a:xfrm flipV="1">
            <a:off x="5562720" y="4266720"/>
            <a:ext cx="228600" cy="381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6BA6-B4F2-4541-8E4D-B82894A2A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Essence of Emma …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DETAILED IN PRACTICE, SIMPLE IN ITS ESS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critical market syst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der market syst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the market, use interviews, gath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apping at the heart of E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range of humanitarian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F88A-E713-420B-AEDA-A8843F1B6B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 …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, basic and ef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the early stages of a 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survival needs, as well as protection of livelihoods; more effective use of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an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affected community, as well as what th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wider range of innovative humanitarian recommendations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4951-3D0E-4175-9E3B-9869A99DA9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Aims &amp; Objec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i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cipants can explain the purpose and processes of EMM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confidently adapt and apply it in appropriate circumstances to humanitarian emergencies, thereby articulating a range of effective response op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8598-BE65-489C-9FF7-3A41A20E0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Aims &amp; Objectiv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y the end of the training course, participants will be able 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identify the benefits of using EM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ate, explain and apply the 3 strands and 10 steps of EMMA in emergency contex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tate and use the criteria required for effective critical market system selectio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se the key tools of EM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ollate and analyse data gathered through the use of EMMA tools, and produce suitable options for effective humanitarian response in emergencies based on that dat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explain the value of EMMA to senior decision-mak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600-C189-4531-A15B-88FFA3AE1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Guided Study &amp; Practice of the Toolk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spcAft>
                <a:spcPts val="4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ource material is the EMMA Toolkit itself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llows participants to become familiar &amp; confident with 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will consider the core, major parts of the Toolki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understand it sufficiently to continue study after workshop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. then use it in the field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737E-2C03-4195-92BA-64058F1C3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1600200"/>
            <a:ext cx="7010280" cy="27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 are a crucial component of how people survive.  So understanding how they are functioning and disrupted is critical to any analysis of hunger, and vulnerability to food and livelihood insecurity or poverty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aul Harvey, Humanitarian Policy Group, 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5" descr="EMMA Market 1"/>
          <p:cNvPicPr/>
          <p:nvPr/>
        </p:nvPicPr>
        <p:blipFill>
          <a:blip r:embed="rId1"/>
          <a:stretch/>
        </p:blipFill>
        <p:spPr>
          <a:xfrm>
            <a:off x="5105520" y="4495680"/>
            <a:ext cx="271764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611D-45C4-410F-B773-59765B85EE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better analysis of critical market systems - enables broader range of respon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survival and protects livelihoo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use of existing market actors’ capabil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use of humanitarian resourc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transition to economic recov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risk of dependenc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agmatic response to typical human resource and information constraints in sudden-onset emergenc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C898-652E-4B05-8350-F898E2413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ergency Market Mapping an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EMMA 2"/>
          <p:cNvPicPr/>
          <p:nvPr/>
        </p:nvPicPr>
        <p:blipFill>
          <a:blip r:embed="rId1"/>
          <a:stretch/>
        </p:blipFill>
        <p:spPr>
          <a:xfrm>
            <a:off x="2743200" y="3429000"/>
            <a:ext cx="36320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4D1A-0FD7-4A0D-B229-25D6578D5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urpose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MA tools are rough and ready, speed-orien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decision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ponse o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ssment of complementa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o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al ignorance” &amp; “appropriate imprecision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: revise, refine, “good enough” analy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7C4A-FCFB-4CF1-AF93-E96EBDC10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EMMA &amp; Market System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219320"/>
          <a:ext cx="761976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6197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MA &amp; Market System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137160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levels of the ma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infrastructure, services &amp; in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s – key tool: comparisons possible using BASELINE and EMERGENCY-AFFECTED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map per critical marke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30D9-A5E5-46D5-82E9-CCE7E85BF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FF2C-8B3D-48AA-90D1-EC014FA98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e 3 Strands of EMM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96" name="Picture 1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3 Strands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21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p = People; priority needs and preferences of most affecte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= Market system; constraints and capabil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e = Emergency response; different options and opportun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ABA7-A635-4314-8569-229B80CD71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662-C46A-4FEB-9599-2BB3CFF68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he 10 Steps of EMMA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04" name="TextBox 6" descr=""/>
          <p:cNvPicPr/>
          <p:nvPr/>
        </p:nvPicPr>
        <p:blipFill>
          <a:blip r:embed="rId1"/>
          <a:stretch/>
        </p:blipFill>
        <p:spPr>
          <a:xfrm>
            <a:off x="133200" y="7430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5" name="TextBox 7" descr=""/>
          <p:cNvPicPr/>
          <p:nvPr/>
        </p:nvPicPr>
        <p:blipFill>
          <a:blip r:embed="rId2"/>
          <a:stretch/>
        </p:blipFill>
        <p:spPr>
          <a:xfrm>
            <a:off x="438120" y="13525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6" name="TextBox 8" descr=""/>
          <p:cNvPicPr/>
          <p:nvPr/>
        </p:nvPicPr>
        <p:blipFill>
          <a:blip r:embed="rId3"/>
          <a:stretch/>
        </p:blipFill>
        <p:spPr>
          <a:xfrm>
            <a:off x="895320" y="19620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9" descr=""/>
          <p:cNvPicPr/>
          <p:nvPr/>
        </p:nvPicPr>
        <p:blipFill>
          <a:blip r:embed="rId4"/>
          <a:stretch/>
        </p:blipFill>
        <p:spPr>
          <a:xfrm>
            <a:off x="1200240" y="25718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8" name="TextBox 10" descr=""/>
          <p:cNvPicPr/>
          <p:nvPr/>
        </p:nvPicPr>
        <p:blipFill>
          <a:blip r:embed="rId5"/>
          <a:stretch/>
        </p:blipFill>
        <p:spPr>
          <a:xfrm>
            <a:off x="1504800" y="31813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09" name="TextBox 11" descr=""/>
          <p:cNvPicPr/>
          <p:nvPr/>
        </p:nvPicPr>
        <p:blipFill>
          <a:blip r:embed="rId6"/>
          <a:stretch/>
        </p:blipFill>
        <p:spPr>
          <a:xfrm>
            <a:off x="1809720" y="37908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0" name="TextBox 12" descr=""/>
          <p:cNvPicPr/>
          <p:nvPr/>
        </p:nvPicPr>
        <p:blipFill>
          <a:blip r:embed="rId7"/>
          <a:stretch/>
        </p:blipFill>
        <p:spPr>
          <a:xfrm>
            <a:off x="2189160" y="440064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1" name="TextBox 13" descr=""/>
          <p:cNvPicPr/>
          <p:nvPr/>
        </p:nvPicPr>
        <p:blipFill>
          <a:blip r:embed="rId8"/>
          <a:stretch/>
        </p:blipFill>
        <p:spPr>
          <a:xfrm>
            <a:off x="2494080" y="501012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2" name="TextBox 14" descr=""/>
          <p:cNvPicPr/>
          <p:nvPr/>
        </p:nvPicPr>
        <p:blipFill>
          <a:blip r:embed="rId9"/>
          <a:stretch/>
        </p:blipFill>
        <p:spPr>
          <a:xfrm>
            <a:off x="2951280" y="5619600"/>
            <a:ext cx="5145120" cy="561960"/>
          </a:xfrm>
          <a:prstGeom prst="rect">
            <a:avLst/>
          </a:prstGeom>
          <a:ln w="0">
            <a:noFill/>
          </a:ln>
        </p:spPr>
      </p:pic>
      <p:pic>
        <p:nvPicPr>
          <p:cNvPr id="313" name="TextBox 15" descr=""/>
          <p:cNvPicPr/>
          <p:nvPr/>
        </p:nvPicPr>
        <p:blipFill>
          <a:blip r:embed="rId10"/>
          <a:stretch/>
        </p:blipFill>
        <p:spPr>
          <a:xfrm>
            <a:off x="3408480" y="6303960"/>
            <a:ext cx="5145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10 Steps of EM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equence of EMMA activit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rative process – steps may be returned to, overlap, as revision continu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till ‘good enough’ picture is achie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49A9-A5D6-49DB-BA88-07953634F7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7347-207F-4D82-AD7D-0CAF8B48E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roduction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Market Mapping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their role with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ir Quirk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 of transport they used to get to Washington, or (if they live in the city) to this ve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96B-CBB0-465D-8FFD-0C6DFC622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7" name="Picture 4" descr="taxi-jun03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DA65-F9CB-4205-82D6-A7F0FB49D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Picture 4" descr="bush-taxi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1661-B521-41AB-B762-4DBFC9C790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5" name="Picture 4" descr="504_taxi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289D-F731-41D4-8F46-61A7DF801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9" name="Picture 4" descr="picture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8FE0-DD03-4187-A508-D15BFC78D6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3" name="Picture 4" descr="taxi926bi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ea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E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93E8-94C4-4E19-ACBE-60AF69D66F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Taxi Vehicle Marke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does the vehicle come from; who else is concerned with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RKET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t does the vehicle and its operator need to operate effectivel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FRASTRUCTURE, SERVICES, INPU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t laws, rules etc govern his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ITUTIONS, RULES, NORMS, TR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picture"/>
          <p:cNvPicPr/>
          <p:nvPr/>
        </p:nvPicPr>
        <p:blipFill>
          <a:blip r:embed="rId1"/>
          <a:stretch/>
        </p:blipFill>
        <p:spPr>
          <a:xfrm>
            <a:off x="7467480" y="152280"/>
            <a:ext cx="1554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09:00:47Z</dcterms:created>
  <dc:creator>Tony Dines</dc:creator>
  <dc:description/>
  <dc:language>en-US</dc:language>
  <cp:lastModifiedBy>Tony Dines</cp:lastModifiedBy>
  <dcterms:modified xsi:type="dcterms:W3CDTF">2009-09-14T16:14:16Z</dcterms:modified>
  <cp:revision>41</cp:revision>
  <dc:subject/>
  <dc:title>PowerPoint Presentation</dc:title>
</cp:coreProperties>
</file>